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272-414C-462C-97FF-FEEDF0E6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462-45BC-44E5-9B0B-EA4206C9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275-C5DD-482E-9710-8A471D5E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BF77-3B45-4604-B3D8-99A67BB5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9B5A-98D4-48B7-9AEC-06CA8224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CAF9-4BC2-475E-BB86-11D2B4CE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9C9-A402-432E-89A3-B57D15C8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10C7-7E38-4037-A872-C5B5563C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7216-EB49-4BE8-B3A7-081199DB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F29-F357-44BF-94A2-B655EF73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0408-D1F0-4095-958F-4D056764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0E0-F4B5-4B38-A2BD-C3243CB7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FC01-D0BB-478E-A431-8AE5862BBAC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54240" y="239760"/>
            <a:ext cx="6286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42920" y="1251000"/>
            <a:ext cx="8929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numbers in brackets after the Greek word are the number of times the word occurs in the New Testame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785960" y="2720880"/>
            <a:ext cx="40003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ω (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κουω (4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λλω (1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λεπω (1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δασκω (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643280" y="28782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d, b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643280" y="34923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ear, lis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643280" y="4106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657680" y="47214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,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657680" y="5321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785880" y="22129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ne verbs like 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785960" y="2000160"/>
            <a:ext cx="40003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χω (7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αμβανω (2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εγω (23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υω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643280" y="21574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, 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643280" y="27716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,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643280" y="3386160"/>
            <a:ext cx="235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ay, speak, t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657680" y="40006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1500120" y="2214720"/>
            <a:ext cx="42861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εω (1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εω (14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λεω (29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εω (5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ρεω (7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ε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4643280" y="23716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4643280" y="29862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643280" y="36003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peak,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4657680" y="4214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,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4657680" y="48150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k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785880" y="15001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ix that are like 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φιλεω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4657680" y="54435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ove,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4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1785960" y="2000160"/>
            <a:ext cx="40003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γελος (1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δελφος (3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ρτος (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ουλος (1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ος (13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οσμος (18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υριος (7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4643280" y="21574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enger, an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643280" y="27716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643280" y="3386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657680" y="40006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4657680" y="46004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,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785880" y="12859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teen nouns declining like 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4657680" y="52293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4643280" y="5872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rd, master, 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1785960" y="1571760"/>
            <a:ext cx="40003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ογος (3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νομος (19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ἰκος (11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ρανος (2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χλος (1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υἱος (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377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ριστος (7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643280" y="1728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d,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4643280" y="23432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643280" y="29574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sehold,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4657680" y="35719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657680" y="41720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4657680" y="48006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4643280" y="54435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ist, Messi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785960" y="1785960"/>
            <a:ext cx="40003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, ἡ, το (198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4643280" y="19432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4643280" y="37274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being,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4643280" y="4356000"/>
            <a:ext cx="37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(as in ‘a people’ or ‘a nation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571680" y="128592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ost common word in Gre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614520" y="2585880"/>
            <a:ext cx="785808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two more that declin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similar but distinct mean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1886040" y="3571920"/>
            <a:ext cx="278604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θρωπος (5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αος (1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642960" y="5227560"/>
            <a:ext cx="8358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lural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s people or nations; for ‘people’ meaning ‘a number of persons’ Greek would use the plural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θρωπ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4:08Z</dcterms:created>
  <dc:creator>Sarah</dc:creator>
  <dc:description/>
  <dc:language>en-US</dc:language>
  <cp:lastModifiedBy>Sarah</cp:lastModifiedBy>
  <dcterms:modified xsi:type="dcterms:W3CDTF">2009-06-29T09:35:21Z</dcterms:modified>
  <cp:revision>16</cp:revision>
  <dc:subject/>
  <dc:title>Slide 1</dc:title>
</cp:coreProperties>
</file>